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020A4E5-C19C-48AB-9EF3-7636E1505A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D1CDB5-A292-4179-81CD-BDB796AA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B2C2399-FACD-4FC6-91BD-4000B2C7CB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B8CFC4C-B7D4-48DC-BE31-AD6ED6E3BE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FBF6949-DCDF-4001-B56B-949FBB8117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58D9731-6A95-41F7-AD72-A1CAF218A2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46425B5-42D0-4A37-8D9A-050BD51181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4EB8A97-0A40-4F06-9826-11EF81EF10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D69422C-6559-48F0-A0BF-615E8A3ED6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E3E2C0D-50C2-4BCF-AE6E-D2AFA22AC2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5FFEA29-4883-459A-8EB1-DB41E4C65C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C172E7E-EDF9-49F1-AEDE-52342D4EFB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F83BF40-89A1-42CF-A748-3AAE77E130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AB1C6B9-1B18-489E-AA23-025BCEB345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30B932F-9302-458B-87F6-4563A53FDB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2D28145-4930-4898-B9A9-39BF8549E4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4D23D7E-B368-4842-BC26-E023EBB010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0B276B4-4688-4DE7-9FA3-D1FDFBBDEA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8436B84-3EFA-4349-9FAB-2724391EDD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30FE3E4-C506-4A7A-B5B4-449AA1FE14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9A88FAF-F5BA-4C8E-91AF-58216F4741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456BF39-6D02-47F8-84B7-6E48F05F85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028-2802-47D7-B2AC-B2C546D0CF0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C477-0A36-4E25-844E-BFA6A0826A1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690-1238-4F9D-8E4F-61EA178704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86D-BC7E-4E02-A5F9-426F8B64DBA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063F-5FB9-4BD7-8C92-AEA2F3BEBBD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802-4E06-4C63-B51D-8BF21FF3237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5CE0-054B-44FF-8E19-D7DE2C9C76F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13DA-5746-4A81-AC66-81E1750CBC5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2B67BF1D-1DBF-4DF4-A133-BE91DF338D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25360" y="1766520"/>
            <a:ext cx="80186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Tutorial: Using PSP2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Review Rat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chmark data on code review rates can be used to estimate review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PSP data, we know that code review rates under 200 LOC/hour generally give high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lanned added and modified LOC, code review time can be calculated using this form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981000" y="4665600"/>
                <a:ext cx="7635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de review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lanned Added and Modified LO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Rectangle 5"/>
          <p:cNvSpPr/>
          <p:nvPr/>
        </p:nvSpPr>
        <p:spPr>
          <a:xfrm>
            <a:off x="879480" y="5578560"/>
            <a:ext cx="791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 similar rate for design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Review Rat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dd review time to your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the total minutes, and/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compile and te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final check of your estimate, make sur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rates are less than 200 LOC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moval rates are 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to 5 per hour for design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10 per hour for cod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is about 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ly no historical data are available for planning defects injected and removed in review ph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you have data for design and code review phases, you may want to cons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are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should be based on your yield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yield goal should be based on your interim report analysis.  If you do not have a yield goal, you should try to achieve greater than 60%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fects Remo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88560" y="1595520"/>
            <a:ext cx="7456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in a review phase are calculated 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defects escaping from prior p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defects injected in a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ntage of defects removed, i.e. Phase 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81040" y="3787920"/>
          <a:ext cx="5416560" cy="841320"/>
        </p:xfrm>
        <a:graphic>
          <a:graphicData uri="http://schemas.openxmlformats.org/drawingml/2006/table">
            <a:tbl>
              <a:tblPr/>
              <a:tblGrid>
                <a:gridCol w="2387520"/>
                <a:gridCol w="535320"/>
                <a:gridCol w="2493720"/>
              </a:tblGrid>
              <a:tr h="42048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s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pes + inj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s remo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ase 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2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8560" y="159516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your estimate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7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7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7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se values on the PSP2 project plan summ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rcRect l="2695" t="14643" r="4128" b="4455"/>
          <a:stretch/>
        </p:blipFill>
        <p:spPr>
          <a:xfrm>
            <a:off x="4746600" y="1606680"/>
            <a:ext cx="3641760" cy="3930480"/>
          </a:xfrm>
          <a:prstGeom prst="rect">
            <a:avLst/>
          </a:prstGeom>
          <a:ln w="0">
            <a:noFill/>
          </a:ln>
        </p:spPr>
      </p:pic>
      <p:sp>
        <p:nvSpPr>
          <p:cNvPr id="283" name="Oval 7"/>
          <p:cNvSpPr/>
          <p:nvPr/>
        </p:nvSpPr>
        <p:spPr>
          <a:xfrm>
            <a:off x="5345280" y="2367000"/>
            <a:ext cx="188640" cy="182520"/>
          </a:xfrm>
          <a:prstGeom prst="ellipse">
            <a:avLst/>
          </a:prstGeom>
          <a:solidFill>
            <a:srgbClr val="005695"/>
          </a:solidFill>
          <a:ln w="9360">
            <a:solidFill>
              <a:srgbClr val="005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5343480" y="3576600"/>
            <a:ext cx="189000" cy="182520"/>
          </a:xfrm>
          <a:prstGeom prst="ellipse">
            <a:avLst/>
          </a:prstGeom>
          <a:solidFill>
            <a:srgbClr val="005695"/>
          </a:solidFill>
          <a:ln w="9360">
            <a:solidFill>
              <a:srgbClr val="005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5343480" y="4778280"/>
            <a:ext cx="189000" cy="182520"/>
          </a:xfrm>
          <a:prstGeom prst="ellipse">
            <a:avLst/>
          </a:prstGeom>
          <a:solidFill>
            <a:srgbClr val="005695"/>
          </a:solidFill>
          <a:ln w="9360">
            <a:solidFill>
              <a:srgbClr val="005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d Quality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also provides the following derived quality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mov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moval le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defects per K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defects per K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moval E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88920" y="1595160"/>
            <a:ext cx="741384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88440" indent="-38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 removal efficiency is calculated automaticall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e number of defects removed per hour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1"/>
              <p:cNvSpPr txBox="1"/>
              <p:nvPr/>
            </p:nvSpPr>
            <p:spPr>
              <a:xfrm>
                <a:off x="1484280" y="5850000"/>
                <a:ext cx="5803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 removal efficienc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in ph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in phas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inute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1" name="Picture 21" descr="s21"/>
          <p:cNvPicPr/>
          <p:nvPr/>
        </p:nvPicPr>
        <p:blipFill>
          <a:blip r:embed="rId1"/>
          <a:stretch/>
        </p:blipFill>
        <p:spPr>
          <a:xfrm>
            <a:off x="1770120" y="3614760"/>
            <a:ext cx="5175360" cy="20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7760" y="9475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moval Le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64720" y="1595520"/>
            <a:ext cx="7410600" cy="16113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 marL="37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 removal leverage is calculated automaticall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removal efficienc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Review vs.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 vs.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vs.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614600" y="5533920"/>
                <a:ext cx="59594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ect removal leverage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fects removed per hour for a review or compile phas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fects removed per hour for unit tes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5" name="Picture 15" descr="s14"/>
          <p:cNvPicPr/>
          <p:nvPr/>
        </p:nvPicPr>
        <p:blipFill>
          <a:blip r:embed="rId1"/>
          <a:stretch/>
        </p:blipFill>
        <p:spPr>
          <a:xfrm>
            <a:off x="1968480" y="3338640"/>
            <a:ext cx="5175360" cy="20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Defects Per KL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88920" y="1595520"/>
            <a:ext cx="74138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defects per KLOC is calculated automatically and is an indicator of the quality of the program that you put into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1476360" y="5645160"/>
                <a:ext cx="6024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 defects/KL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in tes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dded and Modifi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9" name="Picture 13" descr="s15"/>
          <p:cNvPicPr/>
          <p:nvPr/>
        </p:nvPicPr>
        <p:blipFill>
          <a:blip r:embed="rId1"/>
          <a:stretch/>
        </p:blipFill>
        <p:spPr>
          <a:xfrm>
            <a:off x="2027160" y="2936880"/>
            <a:ext cx="4967280" cy="24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fects Per KL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88920" y="1595520"/>
            <a:ext cx="74138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defects per KLOC is calculated automatically and is a measure of the total defects injected during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1562040" y="5645160"/>
                <a:ext cx="6078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 defects/KL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defects remo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dded and Modifi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3" name="Picture 13" descr="s16"/>
          <p:cNvPicPr/>
          <p:nvPr/>
        </p:nvPicPr>
        <p:blipFill>
          <a:blip r:embed="rId1"/>
          <a:stretch/>
        </p:blipFill>
        <p:spPr>
          <a:xfrm>
            <a:off x="1995480" y="3044880"/>
            <a:ext cx="4967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PSP2 process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2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2 for program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8560" y="1595160"/>
            <a:ext cx="74408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(actual and to-date) is calculated automatically for the entire process and is the percentage of defects injected and removed before the first comp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773360" y="5761080"/>
                <a:ext cx="5392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veral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before compi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fects injected before compil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7" name="Picture 17" descr="s17"/>
          <p:cNvPicPr/>
          <p:nvPr/>
        </p:nvPicPr>
        <p:blipFill>
          <a:blip r:embed="rId1"/>
          <a:stretch/>
        </p:blipFill>
        <p:spPr>
          <a:xfrm>
            <a:off x="2057400" y="3289320"/>
            <a:ext cx="4967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see more improvement from design and code reviews than any other process change you m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will impr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vity will incr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provides data that allows yo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 for specific quality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quality during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quality of your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roductivity without sacrificing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2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2 are to int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for evaluating and improving the quality of your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88920" y="1595520"/>
            <a:ext cx="74138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review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 checklists are described separ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adds two key capabilities to the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2 project plan summary supports these two new capa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88920" y="1595160"/>
            <a:ext cx="74138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hases have been added to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reviews (DL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s (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79560" y="2838600"/>
            <a:ext cx="39369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nd defect data from these phases are summarized on the PSP2 Project Plan 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s5a"/>
          <p:cNvPicPr/>
          <p:nvPr/>
        </p:nvPicPr>
        <p:blipFill>
          <a:blip r:embed="rId1"/>
          <a:stretch/>
        </p:blipFill>
        <p:spPr>
          <a:xfrm>
            <a:off x="662040" y="3924360"/>
            <a:ext cx="4336920" cy="246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s5b"/>
          <p:cNvPicPr/>
          <p:nvPr/>
        </p:nvPicPr>
        <p:blipFill>
          <a:blip r:embed="rId2"/>
          <a:stretch/>
        </p:blipFill>
        <p:spPr>
          <a:xfrm>
            <a:off x="5186520" y="2538360"/>
            <a:ext cx="350496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Pl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introduces quality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planning inv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the total number of defects that will be inj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the number of defects that will be injected and removed in each process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the amount of time needed for 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ing these parameters as needed to ensure a high qualit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Total De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296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imate the total defects injected and removed, use the estimated program size and to-date defect density to calculate the estimated total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30320" y="3817800"/>
          <a:ext cx="7674120" cy="723960"/>
        </p:xfrm>
        <a:graphic>
          <a:graphicData uri="http://schemas.openxmlformats.org/drawingml/2006/table">
            <a:tbl>
              <a:tblPr/>
              <a:tblGrid>
                <a:gridCol w="2784600"/>
                <a:gridCol w="4889520"/>
              </a:tblGrid>
              <a:tr h="3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total defects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-date total defects/KLOC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Added and Modified LOC /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fects by P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imate defects injected and removed by phase, distribute the planned total defects injected and removed based on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ned Total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 Date 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in each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 Date 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in each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Review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88920" y="1595160"/>
            <a:ext cx="741384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SP benchmarks can be used to estimate design review and code review time in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3" descr="s7"/>
          <p:cNvPicPr/>
          <p:nvPr/>
        </p:nvPicPr>
        <p:blipFill>
          <a:blip r:embed="rId1"/>
          <a:stretch/>
        </p:blipFill>
        <p:spPr>
          <a:xfrm>
            <a:off x="985680" y="2708280"/>
            <a:ext cx="7446960" cy="20732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4"/>
          <p:cNvSpPr/>
          <p:nvPr/>
        </p:nvSpPr>
        <p:spPr>
          <a:xfrm>
            <a:off x="998640" y="5203800"/>
            <a:ext cx="752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al calculations, starting with the code review rate is recomm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14Z</dcterms:modified>
  <cp:revision>191</cp:revision>
  <dc:subject/>
  <dc:title>No Slide Title</dc:title>
</cp:coreProperties>
</file>